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C77A-DAAF-457E-9309-0077E2C9EE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ight need to listen 2 or 3 times to th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A31A-F865-4244-B081-8C6C1EE38FF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t then end, all letters could be stuck to the wall, all learners read them all and decide which one is the best, and send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550A-71E1-4AC8-B3C5-533795DBCA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1 – 3 hours, depending on needs of learners: speaking (10 – 20 mins); vocabulary (10 – 30 mins); reading (10 – 30 mins); grammar (10 – 30 mins); listening (10 – 30 mins); writing (20 – 40 mi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9CEE-DF94-4F68-9B9F-25D5F2E5FCE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monitor for errors and get learners to correct these after the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7C48-CB7E-4E8A-A7AD-022C16C707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cept-check phrases before or after learners discuss / categorize them. You can elicit and add word / phrase stress too, and drill phrases if necessary. Learners could use dictionaries or computers to check phr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FD83-3D2C-437F-BA10-609A6242B4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fferentiate by giving learners a choice between reading the easy version or the difficult version. Those who read the easy version can read the original for home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AC0F-E0B6-4B7E-B2E3-DA011CC667B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half sentences could be cut up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c or f;  2) f or c; 3) h ;  4) g; 5) b ;  6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6B51-33E1-440D-A442-70486111079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 / 2 / 3 = zero;  4  = 1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  5 / 6 / 7 =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62D1-BBD3-46FB-8441-6DD487BE94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NB: 1, 3 and 5 are second conditionals; 2 and 4 are first conditio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2B36-FF29-4CF3-B129-80B8868D8C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courage learners to predict answers to the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CF32-810E-4533-BEED-DC3097F3FD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9657-5E48-4CF8-BBBA-04B46C26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7D5-0954-49F4-8BA8-6A4F46BF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49AA-5C9F-47BB-9A59-C391E256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ABB-AEF6-43DA-BB4E-FA188AB4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15CF-9577-4CDA-B894-12164E9C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6B3F-F8B1-4380-937B-BCFB3E04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58D9-8E29-4EB6-8581-0F0889F4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7121-A780-40C7-BED5-40D74777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5FE3-8077-4C22-9B3C-EB5022F6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C06D-8DE5-4156-8921-8BA4CFF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657-62D1-4EBB-9370-9CD3FAF9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4431-1BDE-4B92-882E-FF7B094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F831-9BCE-41E3-B41D-FA1E8CED32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newint.org/blog/radio-ni/2012/10/30/podcast-john-kirk-cuba-healthcare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Bad_medicine" TargetMode="External"/><Relationship Id="rId2" Type="http://schemas.openxmlformats.org/officeDocument/2006/relationships/hyperlink" Target="http://www.newint.org/features/2012/11/01/healthcare-keynote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492280"/>
            <a:ext cx="561636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alibri"/>
              </a:rPr>
              <a:t>Health for the world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157720"/>
            <a:ext cx="7848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New Internationalist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ady Upper-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newint.org/issues/457-01-cover.jpg"/>
          <p:cNvPicPr/>
          <p:nvPr/>
        </p:nvPicPr>
        <p:blipFill>
          <a:blip r:embed="rId1"/>
          <a:stretch/>
        </p:blipFill>
        <p:spPr>
          <a:xfrm>
            <a:off x="6227640" y="54000"/>
            <a:ext cx="2808360" cy="3970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new internationalist logo black on white.jpg"/>
          <p:cNvPicPr/>
          <p:nvPr/>
        </p:nvPicPr>
        <p:blipFill>
          <a:blip r:embed="rId2"/>
          <a:stretch/>
        </p:blipFill>
        <p:spPr>
          <a:xfrm>
            <a:off x="152280" y="22320"/>
            <a:ext cx="6075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isten to find the answe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ewint.org/blog/radio-ni/2012/10/30/podcast-john-kirk-cuba-healthcare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www.newint.org/issues/457-01-cover.jpg"/>
          <p:cNvPicPr/>
          <p:nvPr/>
        </p:nvPicPr>
        <p:blipFill>
          <a:blip r:embed="rId2"/>
          <a:stretch/>
        </p:blipFill>
        <p:spPr>
          <a:xfrm>
            <a:off x="6300720" y="292428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, write a formal letter to the health minister in your govern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of the phrases we categor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conditional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use some ideas from the list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Heavy"/>
              </a:rPr>
              <a:t>proof-read the letter carefu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Heav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50"/>
                </a:solidFill>
                <a:latin typeface="Calibri"/>
              </a:rPr>
              <a:t>Spea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b0f0"/>
                </a:solidFill>
                <a:latin typeface="Calibri"/>
              </a:rPr>
              <a:t>Vocabulary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ategor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00000"/>
                </a:solidFill>
                <a:latin typeface="Calibri"/>
              </a:rPr>
              <a:t>Read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Grammar focu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condition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2060"/>
                </a:solidFill>
                <a:latin typeface="Calibri"/>
              </a:rPr>
              <a:t>Listen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nswer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rit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 a formal le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scuss these question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7030a0"/>
                </a:solidFill>
                <a:latin typeface="Calibri"/>
              </a:rPr>
              <a:t>How good is healthcare in the world today? And in your country / countr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alibri"/>
              </a:rPr>
              <a:t>How does inequality affect heal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50"/>
                </a:solidFill>
                <a:latin typeface="Calibri"/>
              </a:rPr>
              <a:t>Which countries have the best healthcar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hat can we do to improve health and healthcare in the worl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Words and phrases: are these related to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health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problems</a:t>
            </a:r>
            <a:r>
              <a:rPr b="0" lang="en-GB" sz="4000" spc="-1" strike="noStrike">
                <a:solidFill>
                  <a:srgbClr val="0070c0"/>
                </a:solidFill>
                <a:latin typeface="Calibri"/>
              </a:rPr>
              <a:t> or </a:t>
            </a:r>
            <a:r>
              <a:rPr b="1" lang="en-GB" sz="4000" spc="-1" strike="noStrike">
                <a:solidFill>
                  <a:srgbClr val="0070c0"/>
                </a:solidFill>
                <a:latin typeface="Calibri"/>
              </a:rPr>
              <a:t>solu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health insurance           financial crisi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corruption              majority world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life expectancy                   vaccination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pharmaceutical companies      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200" spc="-1" strike="noStrike">
                <a:solidFill>
                  <a:srgbClr val="000000"/>
                </a:solidFill>
                <a:latin typeface="Calibri"/>
              </a:rPr>
              <a:t>IMF debt               disease prevention                          indigenous people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o find 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sy: </a:t>
            </a: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Bad_medic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fficult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int.org/features/2012/11/01/healthcare-keynote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newint.org/issues/457-01-cover.jpg"/>
          <p:cNvPicPr/>
          <p:nvPr/>
        </p:nvPicPr>
        <p:blipFill>
          <a:blip r:embed="rId3"/>
          <a:stretch/>
        </p:blipFill>
        <p:spPr>
          <a:xfrm>
            <a:off x="2987640" y="2781360"/>
            <a:ext cx="260352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rammar focus: match these half sent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50920" y="1197000"/>
            <a:ext cx="417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) If Leela feels ill,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2) If she is too tired or ill to work, 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3) The hospital gets subsidies from the govern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4) But Indians will only believe this .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5) Now people are talking again about healthcare for all –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6) Sachs says that if we had a minimal healthcare package,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7) But it would be more possible .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6000" y="1125000"/>
            <a:ext cx="4608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it starts to happ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t would cost around $50 – 60 for each person for a ye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) she asks one of Preeti’s children for a paracetamo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) if earnings were higher and more equal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) her son takes her to a doctor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) as if it were a new ide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h) 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they promise to keep a few beds for the po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match the completed sentences to these conditional structur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9280" y="1599840"/>
            <a:ext cx="8964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Zero conditional (facts, if=when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70c0"/>
                </a:solidFill>
                <a:latin typeface="Calibri"/>
              </a:rPr>
              <a:t>If + present tense, + present ten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future possibility /choices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c00000"/>
                </a:solidFill>
                <a:latin typeface="Calibri"/>
              </a:rPr>
              <a:t>If + present tense, + future simple (will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GB" sz="33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1" lang="en-GB" sz="3300" spc="-1" strike="noStrike">
                <a:solidFill>
                  <a:srgbClr val="000000"/>
                </a:solidFill>
                <a:latin typeface="Calibri"/>
              </a:rPr>
              <a:t> conditional (improbability / impossibility)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030a0"/>
                </a:solidFill>
                <a:latin typeface="Calibri"/>
              </a:rPr>
              <a:t>If + past tense, + conditional tense (would + infinitive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(there are other conditionals too, of course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complete these sentences with information from the text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doctors told poor people to get treatment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oor people have to pay for healthcare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the Indian government spent more money on healthcare than on arms,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get stressed by not feeling they are part of society, 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ocieties were more equal,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text, they talk about healthcare in Cuba – discuss possible answers to these ques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2205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is so good about healthcare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How does Cuba have money for this healthca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Do some people (the elite) get better (preferential) treat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alibri"/>
              </a:rPr>
              <a:t>What difficulties / challenges does healthcare in Cuba still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10:28:15Z</dcterms:created>
  <dc:creator>Mix</dc:creator>
  <dc:description/>
  <dc:language>en-US</dc:language>
  <cp:lastModifiedBy>Mix</cp:lastModifiedBy>
  <dcterms:modified xsi:type="dcterms:W3CDTF">2012-11-04T15:17:37Z</dcterms:modified>
  <cp:revision>22</cp:revision>
  <dc:subject/>
  <dc:title>Health for the world?</dc:title>
</cp:coreProperties>
</file>